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4B3-4F5F-4BB8-9AC8-38F4993F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190-0BCA-4503-910A-B95FA3E0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0E5-D67D-4747-B9A0-B2BA98FC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FC4-0657-48A5-8F44-D7D88388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AA62-364B-497C-968D-1F8F4957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62E3-901A-4C74-9DBB-7A6EF2EA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173F-82AE-4A6F-82A0-18FB337A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4E3D-A634-4298-B61D-EC003EDF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39A6-B3D1-4401-BC26-2D733CD6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C030-DD9B-4455-8A6F-06698782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3BEB-00CA-4C5B-991F-BAF06F88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319-DE58-4824-BC28-CA4D65C3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724C-9E93-46DF-8A42-1A6DB3C8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E8B4-C2C1-4031-A929-00180344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0F34-D2DC-45B0-B893-6568BCAE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47B6-486F-4B91-800A-49914258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5307-9579-4A27-9F26-B72D35D3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175-68AC-4EE4-A989-E3DFCDF3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8F9-3C88-4CCC-A604-BD2B3397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8DB-E71B-48C9-B173-4DFA8F6F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C42-B041-45D1-86A5-6292FDD4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659-FBDC-4E36-AAD1-6BCDF129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325-AF4A-4460-8C41-AF631F7D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4BA-EE87-4AA8-B724-E84A28E4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E6DF-56E6-41D3-A72E-144EEE920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4898-15B3-454B-ABA1-D5EAF0C55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 Involvement in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ld War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407628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 II in Europe is 1939-19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involvement in WWII is 1941-19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is almost all lost by the time the US is in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618000" y="1828800"/>
            <a:ext cx="1906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merican Response to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remain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lationist- no repeats of WW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“America First Committe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America out of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ales of military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ce nations to “cash and carry” 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D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DR wants to help during WW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es to help Al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s up navy in the Pacific because sees Japanese ag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273060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rman Aggres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is worried about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s Congress to make new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up of naval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ve Service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ce-time draft (just in c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nd-Lease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war supplies to any nation that is a friend of the 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553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panese Aggres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407628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pan keeps taking mor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t Asia, SE Asia, islands in the Pa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. 7, 1941 Japanese bomber attacks Pearl Har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93800" y="1828800"/>
            <a:ext cx="3592440" cy="2095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851440" y="1828800"/>
            <a:ext cx="1403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 in World War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. 8, 19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 declares war on 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. 11, 19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y and Italy declare war on the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has to fight in Europe and 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1944720"/>
            <a:ext cx="38098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United States now has to prepare for war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S Mobilization tomorrow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4:33:24Z</dcterms:created>
  <dc:creator>Buffalo Grove High School</dc:creator>
  <dc:description/>
  <dc:language>en-US</dc:language>
  <cp:lastModifiedBy>Buffalo Grove High School</cp:lastModifiedBy>
  <dcterms:modified xsi:type="dcterms:W3CDTF">2008-04-16T16:51:02Z</dcterms:modified>
  <cp:revision>3</cp:revision>
  <dc:subject/>
  <dc:title>US Involvement in WWII</dc:title>
</cp:coreProperties>
</file>